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372-A6D5-43F9-96F7-DFDC41C6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BA6-0BCF-4EB4-8535-70DE1531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1426C-0BF0-4F94-A13E-CCDA3B61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C07FE-A831-47CF-AA8B-D772CAC7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DB061-1C4C-4A88-96FC-2B204A20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C8CD8-77F7-4C6B-A681-78EE5D21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C5768-EE09-45C9-8C8D-B755A64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EAC09-2849-49E8-B13C-A1A32EB8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C15FE-1AB5-4E26-AB38-CF0AA89B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B16B5-7EA2-4FF2-BA94-6698BAC9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8EF6F-7698-4203-8460-16CD4E8C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BAA14-ECB6-4FD1-9EB2-071EA958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C1B-331A-49DF-B4E7-CCC058A8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0AE7C-9F2C-4BEC-BE7C-188444E4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81441-5BC7-4EF7-9C3F-2122CB16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CFFA1-1818-4F7B-80B0-697AC864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1D947-7894-4003-BDC1-E9179569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EB21E-8F6B-437A-9673-1A78623E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BDFF8-8D41-4296-AA24-E71DE26E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7814E-FF0C-4F5C-A38D-687DEA19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B5042-943F-465B-B1EE-6727F4B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11AA8-D5C0-4B75-8720-641391D3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2A44F-3520-48F9-9C0B-33F84F38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934-7842-4263-A1C0-A9EAA2EC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34E4C-5F23-4D8A-84BD-700553B9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EA862-A306-4742-8EBA-18396770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18797-E01D-49F2-8C89-9B0C925D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90ADA-592D-4975-B07E-4C3D9F1B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56531-F929-496C-8E3B-8ADB4519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CF3C7-70A0-4BD1-9089-9CFECCE4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E7FB0-287D-43D9-883D-B2EC7B6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D5CF9-9490-4EF4-AFD0-D1CAA05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A1D22-76DD-4E5C-A7A2-3C4B7DA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77167-0230-4A54-A6E8-C414CD2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9ED3-C4BB-4F1F-A8FD-834DF526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956E9-6446-459F-AB20-D223B3A8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45443-E321-4B7F-A60C-2E2DAB31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77D20-7DA5-414D-99EE-03E5C13F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30B4F-61CD-4BA9-94A9-7AD67B6F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58707-3059-436B-BE93-5DF5EBEC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BC9ED-EEFC-4223-862C-A03D6227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706CF-55BE-4896-A9A0-BB98276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4983B-E0D1-4B33-829D-16C9F727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2F554-5A38-4C2E-BFFF-CEFDE110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F0822-5E5E-49B9-95DF-6FCF9BCA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9F9B-8A07-4E45-86E8-958E0970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46073-0F96-49A2-9EF9-3ABBAAF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DF130-9BBF-4051-9BAB-2500E05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03F69-7542-4EBD-9B3C-9E31C2ED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99FCE-D1C8-4246-88B2-E494FF2B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A9491-46F0-49BE-9DC3-ACFF63AE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40936-975E-42FB-9927-7E065E7E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5D598-AF36-42BA-A12C-98B4C000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7D59B-9E01-450C-8DF5-6FCCF659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BEB95-DFE9-4E19-B08F-DA1CCB05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A2DD1-81E8-4360-91A7-663EB828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5132-87F8-4725-8036-099E129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FA3E2-8A68-4C32-871B-0B2A365D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DD240-BA83-4AFC-9FC5-7758D3EE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47582-D895-4F8A-8C40-FA6FDDC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0FABC-9760-4C38-89CB-4B409EF5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E1F1F-E3D2-40A0-950C-EA1904B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2A0E5-6861-4A64-A897-D9AEB377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AAF47-DE9B-445A-9466-1CDC009E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C5446-0BF4-4D5C-BB4D-3B19DB19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CF2B2-0F39-4FED-A6DB-F60C3291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AFBFB-D694-442D-9DC2-171DBC8B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8FE8-DDCC-4B4B-89FE-96FDA0AB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16A88-10B7-4609-85BE-6B67881B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5B46A-246D-4D54-8D66-29F01854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D4347-79A4-427A-9263-9BF70568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6BFC4-8572-455F-8CF9-3D596F08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FB95F-4AC0-4228-9CAE-3A1D296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510EC-2A21-4DE1-AA13-BB884213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67878-CC9D-4290-8B73-57CC03D7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B4A3E-9CCB-4AD0-9C50-F1A6FF8B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6236F-3266-44B3-9C48-A734CA74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D981B-6E73-4C04-901A-EC2083DD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D770-6D3A-42BC-B28B-1D805446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A0A5C-60D6-48F1-A9C1-463276AB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6BC23-885C-45A8-B4A1-97861A55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D1C26-A632-4E5A-8D05-D3E3684B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49162-14D0-45FE-AD0C-272BA832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0BF53-95EC-421F-967A-60F2737B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AE422-7F97-4777-B3F8-0552C89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0F76C-2105-42C9-87B7-02CCA1C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054EB-BF6C-4870-8214-C8F6E0A5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2A1DF-A7D4-46E3-8953-D78DB0EF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74875-7B6F-4172-B2DA-3F871463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B220-B0BC-44BF-A943-60F5A633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946CF-0BD3-49CA-8A69-2D2FFF4D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6103C-70B0-49AB-8B31-03316DE9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AB73EA-A009-4888-8B03-2E29DA69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A6C43-3900-42E6-A07D-B4204A98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D3A42-64C5-4125-854D-4C9554DB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38A54-5B33-4652-BDAB-BAC8C258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71697-1837-4F3D-9249-01D04637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5C66E-2AFC-4DF9-B7F4-080F1F09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0DF5E-278E-42E9-93ED-CA366466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44A32-12FA-487F-AEF7-BD6A4BCE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118E-5F70-4D78-A9C5-7ED33F8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015A08-6BC3-433B-BFA0-C82ABD03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C17A9-8216-495A-9C3F-53E44D4D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B5FBC-D9BE-45D6-A152-F5552F00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87F68-F5AA-474F-8128-9BC867CD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308DE-FE94-4303-9BE6-D314455C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D0C30-8207-4B82-9B88-6FBEB296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0576B-ECA9-44C9-836F-F35054D5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7287B-C704-455E-8C2A-2C9433DC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FA916-9AE1-433F-B702-FD32797A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21CF7-6AA0-4A71-AD7E-52F8A8D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6ED-A13D-49A1-B057-7930174F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1E79-4A12-43F8-8F75-4A9C547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16E1C-93E7-40E0-8561-D22CDC09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7F065-CC2E-4A8C-BA4D-C8CBFDB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C562F-2176-4272-835A-CD7EB799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2D14E-84F3-4FB1-8A29-C3FD0796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50388-B602-463C-BE7A-98007688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7D6DE-B900-4842-9FB8-3F198F39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D0697-D001-4AEE-A9B3-CC464C39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47337-7225-4E4E-AA05-68A3AF3A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D4518-0692-4068-8E8E-C7310036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38645-C003-41B3-A5D8-F2AD1B82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3D4F-9450-48BD-9599-22D7C96B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0631C-1420-4396-A4DC-91B6167B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A82EC-614A-4EEB-B25C-405D998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5B0F6-489B-4463-9DBE-E5CE939A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F3A96E-00CC-46BB-8E83-8F06327B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86017-56F0-43D8-A29D-67D467E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2F648-22B2-4C59-A5C1-CBB065BE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BEFC2-2C7C-449F-B740-A63548CB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4101-42C9-4E10-ABB2-A18DF149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EBBB-A677-4D7A-9BBF-5E785147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046A-3A43-46AD-9789-147F840B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4B7A-A165-438F-8D32-1CBAFA9F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4FE1-6F56-4A2F-9113-A0F57F46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1D3E-5A77-4592-AAA3-8858459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DB5C-82CE-46C7-BD0C-BD71ECC1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FA74-6BC2-4BD7-90F8-15922F19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2CB-4DC2-4938-BD12-9CDB4D25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BA34-68FB-4BF2-8E92-81B6B7B8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EF51-D17F-4D98-AF42-F695EFD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2B06-96B8-479E-A43E-1CB68A25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9024-A7A3-47D7-B8D6-F26C0CA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498F-A261-4911-9424-E6075E5A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6FAC-C5AB-45DA-803B-E5921485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B724-4CE3-4481-926B-3F2FA2DB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3C9D-5E7E-41DF-9C24-1468A66F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FB5D-D32D-4D07-8063-181153CA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506C4-877C-4C6C-9361-0E8A4A1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573-8635-402D-99D7-631C826B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C148F-5BAE-49DC-8026-3609F46C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3BA9-A0EA-4562-B5E0-052BD298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20F2-638D-43C2-AF6F-28E5F854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3B20-FD82-434E-8152-0F9065B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7DD7B-F2C1-4599-AFE8-7EBADA6F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76F8-A1C4-4E6D-833A-89C4517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03011-58F9-4A22-88AF-D562ECB2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60575-8B19-47C2-8A51-96D0044B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BCA7-8670-49DE-B07D-D79FAA88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09F28-32B7-48EB-8B04-62DBBF46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B29-1292-4070-BBB9-7C32B60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F02C-63D1-4635-BA21-17FBDD81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1008B-8B35-402D-93F4-1F130892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9BC41-C936-452A-BB35-C6B07912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F8A26-6D28-4D64-A2D8-1F6E587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C4EEC-F844-4FD4-B29C-DD6D68CE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06C0F-62CC-425D-A488-51525AE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674B-5B19-4B8B-9DDC-DC920C75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7471C-DD34-4EA7-A5FD-641DC4C4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87628-43BA-4113-91BD-4345D756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5F17-6908-4538-BC50-E3469CC8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C94-FE82-4E57-8242-336CB07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BE38-D0C8-4942-A8C0-3704D45D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F25B4-C911-46C9-AB52-86538A1D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BA2C8-12C6-4E93-BA1B-16C58808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F8396-4919-4547-957D-0991E19C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262D1-6242-4151-BEB4-79B8CBF9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F43E-C3DA-4621-B273-EC0B547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AC27-EFF3-4176-AD22-8A840515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BB713-9C5D-4BF7-8357-A3D54513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A49E8-B7D5-47FC-85E8-99B9E1F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F4B00-C7B9-4291-A306-74C8ED6E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C99-C49E-4A19-BFCA-A36ABB7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36656-EC09-4F2B-A540-2AE36C3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3A8B5-84D3-4873-975E-9A15BADC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9EA0-AC32-4D4D-A3AE-0E3B104B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F3D28-67A7-4226-B2EE-AEAC250F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F742-B143-4906-9554-52020957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F0BD0-28DF-49F5-B17A-96FF8E20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FA66F-D30A-4EB4-A41A-6DB185AB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4857-6AC3-41C1-80F6-9A6FACAB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0931A-9979-405A-BF82-B12B754F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9EBB-28CB-4E8B-9F83-D57F4A5D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57B-5C94-4C61-B952-816779D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834F1-8FC0-4EDF-8EF9-9A37F5E4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38C8C-0DAB-49B8-BE6B-B778A8EB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0F92C-B545-4F1C-B71D-990F9D4B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6F2B6-20B4-449B-A867-27CD5B24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4E6A-48E9-4C5C-98CD-FEC26FF5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30D5F-2AD4-4ADE-B701-1B009F89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5F321-228E-4548-844D-20339EE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E8A6C-B4CD-481D-9522-17E3A76C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E1DB-91AC-4E82-AF82-F49DDBF4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5AACA-EF3C-4906-A6DB-3B808660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43F-5D85-4756-AE4C-35FF7BB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BB896-8FF5-4F2A-9606-C62CC883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70EF2-FADB-4D73-908B-3A35779F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98736-3E1B-4F07-80B9-6FB8B494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11706-CB37-41C2-BF5F-B530B0CB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3C851-141D-4504-8D3E-A6DD34BD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FB57C-5FCA-4575-B015-7608BDDB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FF57B-738A-4DAE-BD61-B41D38F7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C65C8-274A-4961-8522-C815D583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C50A1-6CDD-4858-9435-499F9C2C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48BC6-31CF-439C-BA12-9D33E9A3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67D11-9260-4580-91DD-0F25F16F4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8716C-8EBC-4459-B9D8-87AE4DC95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47640" y="1913040"/>
            <a:ext cx="8672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11360" y="6527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15464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E6F7C-0603-4B91-879C-0FA1935E8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712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71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39280" y="6995880"/>
            <a:ext cx="2335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71840" y="6995880"/>
            <a:ext cx="31780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37080" y="6995880"/>
            <a:ext cx="2335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2E69D-2DE4-423C-AD87-B6D74F106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971280" y="6743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699000" y="6743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335360" y="6743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A7A36-D169-4B8A-8858-D1ED19B2B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4E100-0F64-4A8E-BE3B-0EEFF0883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502920" y="70308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448080" y="703080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7227720" y="7030800"/>
            <a:ext cx="234504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F4CF9-C4DD-42B5-913D-79B229E46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2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13E8C-DF65-4F16-9B74-91364034F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079280" y="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601CC-63EB-4A98-8AE3-A93119910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53928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448080" y="6419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708300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C807D-CE8E-4582-B2B9-75B378DC9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ABC9B-910B-4168-8873-07709A82E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553680"/>
            <a:ext cx="8637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74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454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454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83000" y="6454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7D8F2-E2C0-485B-BB7A-2AAA574C0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3BB62-84C6-4674-82D9-71CCAF7F5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DF812-756E-4ED1-B54B-10C5C2E48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2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349AE-A53C-4AEF-9719-1AD616155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2211D-EBE4-4C52-8436-E71CB3D3D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4C0A8-17A0-44CB-A7DD-DB1346BD5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A4E89-72CE-4F83-B043-DB01514D7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jpeg"/><Relationship Id="rId3" Type="http://schemas.openxmlformats.org/officeDocument/2006/relationships/hyperlink" Target="http://www.dhmo.org/" TargetMode="External"/><Relationship Id="rId4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2920" y="598320"/>
            <a:ext cx="88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News...Dihydrogen Monoxide (DHMO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idden Kil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460600" cy="342900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61722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6771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ihydrogen monoxide is colorless, odorless, tasteless, and kills uncounted thousands of people every year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any deaths are caused by accidental inhalation of DHMO, but the dangers of dihydrogen monoxide do not end there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ymptoms of DHMO ingestion can include excessive sweating and urination, and possibly a bloated feeling, nausea, vomiting and body electrolyte imbalance. For those who have become dependent, DHMO withdrawal means certain death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olonged exposure to its solid form causes severe tissue damage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5715000"/>
            <a:ext cx="2514600" cy="498600"/>
          </a:xfrm>
          <a:prstGeom prst="rect">
            <a:avLst/>
          </a:pr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37080" bIns="900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indsay Lohan's Latest Addiction—DHMO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2920" y="560160"/>
            <a:ext cx="885492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HMO is being found Everywhe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1238400" y="1979640"/>
            <a:ext cx="3147840" cy="395748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3520" y="1979280"/>
            <a:ext cx="40402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642960" indent="-641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nd side by side with many other harmful chemicals during Michael Jackson's autops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42960" indent="-641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nd in biopsies of pre-cancerous tumors and lesion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2920" y="598320"/>
            <a:ext cx="88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s is Not a New Chemic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531720" y="1719360"/>
            <a:ext cx="4497480" cy="376704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33520" y="1979640"/>
            <a:ext cx="40402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cent Studies have revealed this substance may have played part in the beginnings of the demise of the Titanic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ads to corrosion and oxidation of many metal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ontamination of electrical systems often causes short-circuits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Exposure decreases effectiveness of automobile brakes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n dissolve many substanc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2920" y="598320"/>
            <a:ext cx="88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Affects our Wild Lif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760320" y="2189160"/>
            <a:ext cx="4040280" cy="238284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257440" y="2743200"/>
            <a:ext cx="4040280" cy="333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n extraordinarily sticky flui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reates a "stretchy skin"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2920" y="560160"/>
            <a:ext cx="885492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lloon filled with DHMO is Unaffected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914400" y="1986120"/>
            <a:ext cx="2820960" cy="395748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343400" y="2047680"/>
            <a:ext cx="4572000" cy="389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ble to absorb heat without undergoing an increase in temperature or change of stat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2920" y="560160"/>
            <a:ext cx="885492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isn't the Government Responding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2114640" cy="3657600"/>
          </a:xfrm>
          <a:prstGeom prst="rect">
            <a:avLst/>
          </a:prstGeom>
          <a:ln w="0">
            <a:noFill/>
          </a:ln>
        </p:spPr>
      </p:pic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429000" y="1684440"/>
            <a:ext cx="594360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hould I be concerned about Dihydrogen Monoxide?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Yes, you should be concerned about DHMO! Although the U.S. Government and the Centers for Disease Control (CDC) do not classify Dihydrogen Monoxide as a toxic or carcinogenic substance (as it does with better known chemicals such as hydrochloric acid and benzene), DHMO is a constituent of many known toxic substances, diseases and disease-causing agents, environmental hazards and can even be lethal to humans in quantities as small as a thimbleful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17320" y="685440"/>
            <a:ext cx="88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l You Join Us in Our Quest to Seek and Destroy this Heinous Substance?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800240" y="2971440"/>
            <a:ext cx="404028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ake Action Now!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Flyers Available at Front of presentation area.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More info at: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dhmo.org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6162840"/>
            <a:ext cx="2514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684360" indent="-682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  <a:ea typeface="Arial Unicode MS"/>
              </a:rPr>
              <a:t>Damage caused by DHMO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2:11:59Z</dcterms:created>
  <dc:creator/>
  <dc:description/>
  <dc:language>en-US</dc:language>
  <cp:lastModifiedBy/>
  <dcterms:modified xsi:type="dcterms:W3CDTF">2011-02-24T16:33:50Z</dcterms:modified>
  <cp:revision>8</cp:revision>
  <dc:subject/>
  <dc:title/>
</cp:coreProperties>
</file>